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7A3-C111-4C70-B301-16DDAB0E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35B-B7AB-4FCF-A038-D804608B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AC3-7DB1-4614-AC57-76445259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F90-247A-44E7-AE35-DFC9EFD7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2BD-90CD-4259-A3B1-C74BA8E2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8DC8-A9CA-445C-A43F-EC2D0F3D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FE45-0EDB-4B3F-AA93-56461310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7DA-0531-4CB0-A878-6369B79A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36F-6AC3-41E1-AB34-8BC6CDB7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073-4667-4455-B13A-ACB179B7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CDDB-A2F1-4266-B918-01145A47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719E-F097-4A81-9287-D459C69B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D170-CC62-474E-8AD3-FE2235A59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705720"/>
            <a:ext cx="7162560" cy="3047760"/>
          </a:xfrm>
          <a:prstGeom prst="roundRect">
            <a:avLst>
              <a:gd name="adj" fmla="val 2704"/>
            </a:avLst>
          </a:prstGeom>
          <a:solidFill>
            <a:srgbClr val="fff8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876312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7620120"/>
            <a:ext cx="3429000" cy="106668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501480"/>
            <a:ext cx="4572000" cy="41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43440" y="4952880"/>
            <a:ext cx="5302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11-13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ham, North Carolina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400"/>
                </a:solidFill>
                <a:latin typeface="Arial"/>
              </a:rPr>
              <a:t>http://gmod.org/GMOD_Summer_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7696080"/>
            <a:ext cx="3505320" cy="99072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7620120"/>
            <a:ext cx="350532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7620120"/>
            <a:ext cx="3429000" cy="274680"/>
          </a:xfrm>
          <a:prstGeom prst="roundRect">
            <a:avLst>
              <a:gd name="adj" fmla="val 10120"/>
            </a:avLst>
          </a:prstGeom>
          <a:solidFill>
            <a:srgbClr val="ff9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762012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lementation Track, July 11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and a half days of hands on training for new GMOD users on installing and using GMOD tools such as GBrowse, Apollo, CMap, Chado, and the Community Annotation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20120"/>
            <a:ext cx="3505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cipal Investigator Track, July 12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verview of what needs GMOD can address, how the GMOD community operates, and what resources are needed to implement GMOD tools.  For those who are considering using GM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8763120"/>
            <a:ext cx="7010640" cy="274680"/>
          </a:xfrm>
          <a:prstGeom prst="roundRect">
            <a:avLst>
              <a:gd name="adj" fmla="val 10120"/>
            </a:avLst>
          </a:prstGeom>
          <a:solidFill>
            <a:srgbClr val="ff7e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9448920"/>
            <a:ext cx="7238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? Contact the GMOD Help Desk &lt;help@gmod.org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87631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rse is free but enrollment is limited.  To apply please submit a Statement of Interest, available from the GMOD web site.  Applications will be reviewed April 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304920"/>
            <a:ext cx="7162560" cy="9448560"/>
          </a:xfrm>
          <a:custGeom>
            <a:avLst/>
            <a:gdLst>
              <a:gd name="textAreaLeft" fmla="*/ 25200 w 7162560"/>
              <a:gd name="textAreaRight" fmla="*/ 7137360 w 7162560"/>
              <a:gd name="textAreaTop" fmla="*/ 25200 h 9448560"/>
              <a:gd name="textAreaBottom" fmla="*/ 9423360 h 9448560"/>
            </a:gdLst>
            <a:ahLst/>
            <a:rect l="textAreaLeft" t="textAreaTop" r="textAreaRight" b="textAreaBottom"/>
            <a:pathLst>
              <a:path w="21600" h="28494">
                <a:moveTo>
                  <a:pt x="263" y="0"/>
                </a:moveTo>
                <a:arcTo wR="263" hR="263" stAng="16200000" swAng="-5400000"/>
                <a:lnTo>
                  <a:pt x="0" y="28231"/>
                </a:lnTo>
                <a:arcTo wR="263" hR="263" stAng="10800000" swAng="-5400000"/>
                <a:lnTo>
                  <a:pt x="21337" y="28494"/>
                </a:lnTo>
                <a:arcTo wR="263" hR="263" stAng="5400000" swAng="-5400000"/>
                <a:lnTo>
                  <a:pt x="21600" y="263"/>
                </a:lnTo>
                <a:arcTo wR="263" hR="263" stAng="0" swAng="-5400000"/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858000"/>
            <a:ext cx="7010640" cy="685800"/>
          </a:xfrm>
          <a:prstGeom prst="roundRect">
            <a:avLst>
              <a:gd name="adj" fmla="val 2704"/>
            </a:avLst>
          </a:prstGeom>
          <a:solidFill>
            <a:srgbClr val="ffe2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781680"/>
            <a:ext cx="7010640" cy="304920"/>
          </a:xfrm>
          <a:prstGeom prst="roundRect">
            <a:avLst>
              <a:gd name="adj" fmla="val 10120"/>
            </a:avLst>
          </a:prstGeom>
          <a:solidFill>
            <a:srgbClr val="ffbc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67816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MOD is a set of interoperable open source software tools for visualizing, managing and annotating genomic data. If you need to manage genomic data, consider attending this cours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2:07:12Z</dcterms:created>
  <dc:creator>GMOD / NESCent</dc:creator>
  <dc:description/>
  <dc:language>en-US</dc:language>
  <cp:lastModifiedBy>GMOD / NESCent</cp:lastModifiedBy>
  <cp:lastPrinted>2008-03-08T00:46:14Z</cp:lastPrinted>
  <dcterms:modified xsi:type="dcterms:W3CDTF">2008-03-10T16:26:49Z</dcterms:modified>
  <cp:revision>12</cp:revision>
  <dc:subject/>
  <dc:title>PowerPoint Presentation</dc:title>
</cp:coreProperties>
</file>